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36F9-109B-4134-B9A4-F60B5DB7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EBE5-D4CC-49B0-AEC4-7DFBA429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0F2A-A0AC-418A-A120-E8E65CD7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69B-268F-439C-83B0-182448CB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405-F48F-4FC6-8C05-D73341B7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5D8-4BDB-482C-92C0-89B56456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658-98C2-4A76-AA61-3B8F101B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6A0-7E8F-41DD-9A93-78947C3B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8BB-CD89-4210-97E2-DDE4CB50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604-4C42-47DB-8000-9BF6E98A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B81-4E50-4938-BE6E-70E2D26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05D-8021-43AB-89F8-C0068E26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6E2-618B-41DC-9F8A-1EABCC9A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BAD-518F-4265-B835-CC05720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F3E-9FBE-45EB-91CE-0CED68D4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7C00-F509-4FCE-A411-27F63A22D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imah Mu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. Él es guapo.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. Yo estoy cansada. Mi hermano puede ir contego.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 ¿Tu quieres venir a mi casa? Yo estoy aburrida.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Zaara es mi hermana. Ella es bonita. Ella quiere venir. Ella tiene juguetes.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eguro tu quieres venir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venir. Gracias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imah Mu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3886200"/>
            <a:ext cx="5486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o helados es vainilla. Tu helados chocolate. Tu eres simpático. ¿qué comer tu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estamos hambriento. ¿Dónde esta tú casa?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27672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 nada. ¿cuánto ustedes vienen? Mis primas vienen, tienen helados.    Naimah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enir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Gracias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49568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vivir Astoria. ¿Tu estas cansada?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aim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666880" y="5105520"/>
            <a:ext cx="438624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os somos divertida. ¿quién es Ariana Grande? Sus cabello bonita.      Geetika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aquí. Ariana Grande es actriz.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um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30:22Z</dcterms:modified>
  <cp:revision>115</cp:revision>
  <dc:subject/>
  <dc:title>Profile</dc:title>
</cp:coreProperties>
</file>